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1640" y="396036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30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004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2880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164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004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2880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754A-49E7-4DC6-B58C-6FCD406615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2CE9-0575-4DBD-A153-A292869F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45F7-B3BB-404A-B674-CCE7BAD5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6D88-7011-4E3E-AD82-055A1883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D56A-DA52-4927-92DD-F8C3CCC4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6337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46A5D-5F3A-4FCC-A14F-EC16BAD5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6590A-67D5-445C-9B6F-0E36C839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0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B4BE-320C-43EF-9689-F666AB7F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D9F4-D124-4350-84CA-B16E63E4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640" y="396036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0B58-33B7-4642-89EC-2A0008D9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30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659B-2A67-411B-8AEB-75DC2F85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04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880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64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04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880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ECD7-2CFA-4DD1-952F-46ED6EC944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6337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0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6632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24360" y="1557000"/>
            <a:ext cx="5051520" cy="3384360"/>
          </a:xfrm>
          <a:prstGeom prst="rect">
            <a:avLst/>
          </a:prstGeom>
          <a:solidFill>
            <a:srgbClr val="e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24360" y="4941720"/>
            <a:ext cx="5051520" cy="863640"/>
          </a:xfrm>
          <a:prstGeom prst="rect">
            <a:avLst/>
          </a:prstGeom>
          <a:solidFill>
            <a:srgbClr val="e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9BDA-B6CE-4FDB-BB42-743E3A49BAA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2"/>
          </p:nvPr>
        </p:nvSpPr>
        <p:spPr>
          <a:xfrm>
            <a:off x="2771280" y="6244920"/>
            <a:ext cx="172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5141-0305-48E3-A8E7-7A84BCA74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0" t="0" r="124" b="-301"/>
          <a:stretch/>
        </p:blipFill>
        <p:spPr>
          <a:xfrm>
            <a:off x="4643280" y="6081840"/>
            <a:ext cx="4500720" cy="7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Constitution of a multimodal database 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(thank you all </a:t>
            </a:r>
            <a:r>
              <a:rPr b="0" lang="en-US" sz="2800" spc="-1" strike="noStrike">
                <a:solidFill>
                  <a:srgbClr val="2f6456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User verification: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- satisfactory results (EER)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- EER decreases if fusion of two 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modalities (voice + signature, face + 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ignature …) - lowest if all modalities 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are used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irst time GMM approach is used: encouraging result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4BD7-D5EE-4D1D-BA71-324333EC3C8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D61F6-B2BD-40C4-AD20-892AF264FF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2f6456"/>
                </a:solidFill>
                <a:latin typeface="Arial"/>
              </a:rPr>
              <a:t>FUTURE WORK ?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69840" y="1700280"/>
            <a:ext cx="8066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2f6456"/>
                </a:solidFill>
                <a:latin typeface="Arial"/>
              </a:rPr>
              <a:t>User verification: make EER = 0  </a:t>
            </a:r>
            <a:r>
              <a:rPr b="0" lang="fr-BE" sz="2800" spc="-1" strike="noStrike">
                <a:solidFill>
                  <a:srgbClr val="2f645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2f6456"/>
                </a:solidFill>
                <a:latin typeface="Arial"/>
              </a:rPr>
              <a:t>User identification: to be developped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2f6456"/>
                </a:solidFill>
                <a:latin typeface="Arial"/>
              </a:rPr>
              <a:t>Enlarge the database (at the moment: 47 pers.)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2f6456"/>
                </a:solidFill>
                <a:latin typeface="Arial"/>
              </a:rPr>
              <a:t>Use other features for signature authentification (currently: (x,y) coordinates ...)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2f6456"/>
                </a:solidFill>
                <a:latin typeface="Arial"/>
              </a:rPr>
              <a:t>Forgery: build a falsified signatures database to test the robustness of the system. 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2f6456"/>
                </a:solidFill>
                <a:latin typeface="Arial"/>
              </a:rPr>
              <a:t>-&gt; A signature simulator was created: signatures are reproduced in movies, at different speeds, to help the imitator.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73DB-6586-481C-8F46-6088D44D95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03F8E-0186-4E6E-8B56-11EBC6ECE1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360" y="2997360"/>
            <a:ext cx="6337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  <a:ea typeface="Arial"/>
              </a:rPr>
              <a:t>¿</a:t>
            </a:r>
            <a:r>
              <a:rPr b="1" lang="fr-BE" sz="3600" spc="-1" strike="noStrike">
                <a:solidFill>
                  <a:srgbClr val="2f6456"/>
                </a:solidFill>
                <a:latin typeface="Arial"/>
              </a:rPr>
              <a:t> QUESTIONS ?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B9C0-CB76-459F-8B21-75F76E9FD47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2CB3B-16FF-48E8-86FB-6320332BFC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8:02:33Z</dcterms:created>
  <dc:creator>Thierry Dutoit</dc:creator>
  <dc:description/>
  <dc:language>en-US</dc:language>
  <cp:lastModifiedBy>Francois Severin</cp:lastModifiedBy>
  <dcterms:modified xsi:type="dcterms:W3CDTF">2005-08-11T22:20:27Z</dcterms:modified>
  <cp:revision>40</cp:revision>
  <dc:subject/>
  <dc:title>Add title</dc:title>
</cp:coreProperties>
</file>