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200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71640" y="3959640"/>
            <a:ext cx="79200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1640" y="3959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9920" y="3959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9320" y="1628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27000" y="1628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71640" y="3959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9320" y="3959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27000" y="3959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9200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200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50920" y="296640"/>
            <a:ext cx="63360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71640" y="3959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9200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29920" y="3959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71640" y="3959640"/>
            <a:ext cx="79200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200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71640" y="3959640"/>
            <a:ext cx="79200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71640" y="3959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29920" y="3959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9320" y="1628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27000" y="1628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71640" y="3959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9320" y="3959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27000" y="3959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200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050920" y="296640"/>
            <a:ext cx="63360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71640" y="3959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9920" y="3959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71640" y="3959640"/>
            <a:ext cx="79200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6632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924360" y="4941720"/>
            <a:ext cx="5051520" cy="863640"/>
          </a:xfrm>
          <a:prstGeom prst="roundRect">
            <a:avLst>
              <a:gd name="adj" fmla="val 181"/>
            </a:avLst>
          </a:prstGeom>
          <a:solidFill>
            <a:srgbClr val="e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24000" y="1557000"/>
            <a:ext cx="50497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57200" y="6245280"/>
            <a:ext cx="2133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8/12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771640" y="624528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3C0B-D57A-495E-8BD5-3A5CAFCCDC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rcRect l="0" t="0" r="124" b="-276"/>
          <a:stretch/>
        </p:blipFill>
        <p:spPr>
          <a:xfrm>
            <a:off x="4643280" y="6081840"/>
            <a:ext cx="4500720" cy="776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71640" y="1628640"/>
            <a:ext cx="79200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24000" y="1412640"/>
            <a:ext cx="5040360" cy="340020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ltimodal Multilingual Biometric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924000" y="4797360"/>
            <a:ext cx="5040360" cy="105408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7440" cy="11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f6456"/>
                </a:solidFill>
                <a:latin typeface="Arial"/>
              </a:rPr>
              <a:t>Multimodal Multilingual Biometric Database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2144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The database is composed of: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deo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which generate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ill pic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ftware (scrip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2f645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2f6456"/>
                </a:solidFill>
                <a:latin typeface="Arial"/>
              </a:rPr>
              <a:t>47 users / 1663 signatures / 351 videos</a:t>
            </a:r>
            <a:endParaRPr b="0" lang="en-US" sz="2600" spc="-1" strike="noStrike">
              <a:solidFill>
                <a:srgbClr val="2f645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2f6456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108240" y="3497400"/>
            <a:ext cx="2070360" cy="511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16280" y="4164120"/>
            <a:ext cx="814680" cy="109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256440" y="2244600"/>
            <a:ext cx="243828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7440" cy="11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f6456"/>
                </a:solidFill>
                <a:latin typeface="Arial"/>
              </a:rPr>
              <a:t>Signatures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Signature files are composed of comma separated integer values, with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,Y,pressure,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Capturing Device: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com "Graphire3 4x5" digitizer tablet. Sensing surface 127.6mm x 92.8mm. Spatial reolution is 2032 lpi (lines per inch). 512 different pressure levels. Sampling rate is about 10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7440" cy="11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f6456"/>
                </a:solidFill>
                <a:latin typeface="Arial"/>
              </a:rPr>
              <a:t>Videos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The videos provide audio and still pictures.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fter automated postprocessing with perl and mpl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Videos: uncompressed UYVY AVI 640 x 480, 15.00 fp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Audio: uncompressed 16bit PCM audio; mono, 32000Hz little endian.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7440" cy="11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f6456"/>
                </a:solidFill>
                <a:latin typeface="Arial"/>
              </a:rPr>
              <a:t>Controversy &amp; Issues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f6456"/>
                </a:solidFill>
                <a:latin typeface="Arial"/>
              </a:rPr>
              <a:t>Filesystem based or DB engine based (speed vs. transparency)</a:t>
            </a:r>
            <a:endParaRPr b="0" lang="en-US" sz="24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f6456"/>
                </a:solidFill>
                <a:latin typeface="Arial"/>
              </a:rPr>
              <a:t>Raw video for better image quality or compressed video: (</a:t>
            </a:r>
            <a:r>
              <a:rPr b="0" lang="en-GB" sz="2200" spc="-1" strike="noStrike">
                <a:solidFill>
                  <a:srgbClr val="2f6456"/>
                </a:solidFill>
                <a:latin typeface="Arial"/>
              </a:rPr>
              <a:t>Octave/Matlab compatibilty, DB size...)</a:t>
            </a:r>
            <a:endParaRPr b="0" lang="en-US" sz="22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f6456"/>
                </a:solidFill>
                <a:latin typeface="Arial"/>
              </a:rPr>
              <a:t>At some point, some users weren't willing to provide real signatures (also hypothetical legal / psychological issues were raised), we had to rebuild the signature DB at one week from the end with fakes.</a:t>
            </a:r>
            <a:endParaRPr b="0" lang="en-US" sz="22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f6456"/>
                </a:solidFill>
                <a:latin typeface="Arial"/>
              </a:rPr>
              <a:t>Distribution of a &gt;100 Gb database ?  -&gt; compressed videos</a:t>
            </a:r>
            <a:endParaRPr b="0" lang="en-US" sz="22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7440" cy="11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f6456"/>
                </a:solidFill>
                <a:latin typeface="Arial"/>
              </a:rPr>
              <a:t>Lessons learned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Matlab is very limited with video codecs 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Bugs in postprocessing software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Raw video is HUGE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Size constraints: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base with raw video &amp; raw audio: 108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base with mpeg2 video &amp; raw audio: 1.8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2f6456"/>
                </a:solidFill>
                <a:latin typeface="Arial"/>
              </a:rPr>
              <a:t>47 users / 1663 signatures / 351 videos</a:t>
            </a:r>
            <a:endParaRPr b="0" lang="en-US" sz="26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