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1640" y="396036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30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004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2880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164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004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2880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CDD7-029D-437B-8D03-0DBF0A20F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027D-F150-4DE2-BCAD-B93524AF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67CC-E491-4D87-8751-435FEF27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467C-DB15-4783-87FC-5C1035C6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100A-8A2F-49B8-8332-62EDCB5E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6337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043A4-C76B-43A7-9661-A2227296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CD67-0549-4BFC-B1C4-845D178F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0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F266-9457-4A14-9FE5-3C778FF0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D2E3-7FE0-49C9-A043-865580F3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640" y="396036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01F40-F71B-45B5-93C7-0FC187A5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30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8E90-EBC7-4CB3-A989-3D566A3C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04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8800" y="162828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64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04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8800" y="3960360"/>
            <a:ext cx="25506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194B-F05F-4223-AF0C-F13107659A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6337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0640" y="396036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640" y="1628280"/>
            <a:ext cx="386532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1640" y="3960360"/>
            <a:ext cx="7921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6632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24360" y="1557000"/>
            <a:ext cx="5051520" cy="3384360"/>
          </a:xfrm>
          <a:prstGeom prst="rect">
            <a:avLst/>
          </a:prstGeom>
          <a:solidFill>
            <a:srgbClr val="e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24360" y="4941720"/>
            <a:ext cx="5051520" cy="863640"/>
          </a:xfrm>
          <a:prstGeom prst="rect">
            <a:avLst/>
          </a:prstGeom>
          <a:solidFill>
            <a:srgbClr val="e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DAD8-2119-40DA-B124-DBECB200BB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2"/>
          </p:nvPr>
        </p:nvSpPr>
        <p:spPr>
          <a:xfrm>
            <a:off x="2771280" y="6244920"/>
            <a:ext cx="172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2D8D-0F6C-4FEA-833B-B1BBB06DC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0" t="0" r="124" b="-301"/>
          <a:stretch/>
        </p:blipFill>
        <p:spPr>
          <a:xfrm>
            <a:off x="4643280" y="6081840"/>
            <a:ext cx="4500720" cy="7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Fusion (1/2) 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Level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20DB-506F-44B2-B0D2-FC226307C5D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45B68-CD11-4F4E-90F5-7523CB7E87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Fusion (2/2) 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Matching Modul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Mixtu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scores =&gt; lik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Decision Modul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F6B5-9363-46CB-9E30-F21D41C717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0D5D2-D297-44F0-BF42-DAB66B2E63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8:02:33Z</dcterms:created>
  <dc:creator>Thierry Dutoit</dc:creator>
  <dc:description/>
  <dc:language>en-US</dc:language>
  <cp:lastModifiedBy>jp</cp:lastModifiedBy>
  <dcterms:modified xsi:type="dcterms:W3CDTF">2005-08-12T00:36:01Z</dcterms:modified>
  <cp:revision>5</cp:revision>
  <dc:subject/>
  <dc:title>Add title</dc:title>
</cp:coreProperties>
</file>